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7F7-01FF-4626-9563-9F5AFD08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60E-E4ED-4A0C-A047-A2C48314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B84-BB66-4AC8-ADCD-5AE4C6D8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C97-1366-4781-B50C-D1194F54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A5EC-5676-4F57-BD4F-BCB61B13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3F57-624E-4266-9344-CE4DB442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8B7B-1026-428D-8F75-1A029D31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E2EA-39D5-413E-A402-EA4355B8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C79-F94F-4BC6-9289-B5C7AF41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08F9-7239-4870-B5E6-50B1194F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4660-556A-42AB-ACF7-709C7119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B7D-C574-4D0A-9D6A-4ECCD24D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ACC-0F6B-40C3-9027-95AC3431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69B9-3AFF-48A3-ADE7-96BCFC62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4B87-4781-42E4-8631-0A066C23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DC4B-555C-465D-B752-EACF6269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DE60-B9DE-4AA4-BD70-11446D16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B7B9D-6678-4CD2-8B48-18C9FE67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7FC8-0ED7-48AF-887C-927B2A8D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DB90-4171-4C02-B9C6-710235FD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6916-E8B6-4BFF-AC91-42935F50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4EF8-EEA6-4324-86EA-E16A8B49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1C6-C569-4212-BDAC-D146AA9B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72B8-0273-4F86-8203-41F1DE64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90C5-316A-40AB-A25D-B6A43E6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9BE0-D15F-43A2-A4F5-F9C78B8B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9D00-4947-4181-B198-353EA89E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5064-F719-4367-A251-681407EB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5BA9-FDFC-4768-9497-AB9F2CFF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53FF-3E82-41B1-AF3F-6F84D1D6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7F29-8F63-40E2-BA01-C9E7AC56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157A-B7C5-4FA7-AFEB-78AC3C65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FF65-B95E-4D78-ABB8-26D6667F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7DD-8DE3-4596-AE5F-6691BBBE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EDB5-3329-4504-B92B-86960894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4EE1-BCD1-4C19-ACAB-85B9F1C2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E693-CE98-4857-BEEA-FA94BDE4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D5932-4153-4DBE-AFF3-EF43B3C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ECB1-6F06-4639-8107-60F01C1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2C35-F314-4B07-A35D-F981C5E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B470-7F75-4DDB-AE77-86942F0B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D3A68-159E-4239-AB3E-58CCA4BF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C77A3-9422-44ED-8191-7B49EF81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11254-D346-4281-8557-11C72F8F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AB6-1CB6-433D-9DB9-D9446456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E70E-FA33-4C32-816E-C0BCCA49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8631-7F69-4608-BBCD-66BBD9EE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91BD2-3847-4899-A425-D8AF03AF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8AEB-4C95-4459-8308-24AA6501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ADF46-56CF-4FB9-BD4F-B34DDE90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D6AA-1CCD-4190-981C-01C367E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086B2-384C-4CEC-BE01-DCC966B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EEA2E-FB23-48B5-A640-08798BFD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FF3DD-F859-4890-9736-A9598925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0173C-B6EF-4D6D-983A-ACC31223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AF2-2AEF-44AB-97D1-F14013E0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055CA-659F-469D-909B-101F4AB8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3E5-D6B8-46BA-A5FE-66DD3B0F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2A2-B71E-4EB5-A29C-D64D46B6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F3D-4380-4E33-AE6E-14245A85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8E8A-769F-402C-8CF4-D9E7F65873DE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45C6-A77D-4C6A-B893-F0CB209D4189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69CD-6F65-449B-BAC3-6DAEA3C2AB00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464F-9F56-414A-8691-E19F4929992D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729D-4045-42D5-B2E8-BF8A22A8B428}" type="slidenum">
              <a:rPr b="0" lang="fr-B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3" descr="blog_photos5.jpg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6983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blog_photos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38" name="Rounded Rectangle 9"/>
          <p:cNvSpPr/>
          <p:nvPr/>
        </p:nvSpPr>
        <p:spPr>
          <a:xfrm>
            <a:off x="250920" y="4653000"/>
            <a:ext cx="8642160" cy="1800360"/>
          </a:xfrm>
          <a:prstGeom prst="roundRect">
            <a:avLst>
              <a:gd name="adj" fmla="val 16667"/>
            </a:avLst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2c2137"/>
                </a:solidFill>
                <a:latin typeface="Verdana"/>
              </a:rPr>
              <a:t>Coverage and inclusion of trans people</a:t>
            </a:r>
            <a:br>
              <a:rPr sz="3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Calibri"/>
                <a:ea typeface="Calibri"/>
              </a:rPr>
              <a:t>Silvan Agiu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, Policy Director, ILGA-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Briefing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1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 Dec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IE logo without motto GIF version.GIF"/>
          <p:cNvPicPr/>
          <p:nvPr/>
        </p:nvPicPr>
        <p:blipFill>
          <a:blip r:embed="rId3"/>
          <a:stretch/>
        </p:blipFill>
        <p:spPr>
          <a:xfrm>
            <a:off x="539640" y="5429160"/>
            <a:ext cx="20163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Substantive inclu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How to include trans in mainstream work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re trans people sufficiently covered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f not, consider parallel work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Segregated stat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sibility – through inclusive images, express reference to ‘gender identity’ or ‘trans people’ et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s there a trans specific element that needs to be considered separ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.g. Trans heal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lassification of gender identity as a mental ill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SzPct val="9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9" descr="IE logo without motto GIF version.GIF"/>
          <p:cNvPicPr/>
          <p:nvPr/>
        </p:nvPicPr>
        <p:blipFill>
          <a:blip r:embed="rId9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2c2137"/>
                </a:solidFill>
                <a:latin typeface="Verdana"/>
              </a:rPr>
              <a:t>What is ILGA-Europe calling for?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0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137"/>
                </a:solidFill>
                <a:latin typeface="Verdana"/>
              </a:rPr>
              <a:t>EU Gender Strategy 2010-15: ILGA-Europe trans demand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mbat gender based stereotypes (gendernormativity, transphobi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ffective legal protection (current + futur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ackling intersectional discriminat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Gender equality measures take full account of trans peop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9" descr="IE logo without motto GIF version.GIF"/>
          <p:cNvPicPr/>
          <p:nvPr/>
        </p:nvPicPr>
        <p:blipFill>
          <a:blip r:embed="rId8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VAW: ILGA-Europe T deman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option of effective legal meas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VAW as core; but trans people also clearly cove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ver men who may fall victims due to their gender non-conformity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/ gender reassig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Build upon existing local/ national strate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Verdana"/>
              </a:rPr>
              <a:t>Combat gender stereotypes, transphobia, and gendernormativ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9" descr="IE logo without motto GIF version.GIF"/>
          <p:cNvPicPr/>
          <p:nvPr/>
        </p:nvPicPr>
        <p:blipFill>
          <a:blip r:embed="rId1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Health and depathologisation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sure quality standards for medical treat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oval of gender identity disorder from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ternational Classification of Diseases (IC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agnostic and Statistical Manual of Mental Disorders (DSM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verage of trans people under national health insurances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(as applic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9" descr="IE logo without motto GIF version.GIF"/>
          <p:cNvPicPr/>
          <p:nvPr/>
        </p:nvPicPr>
        <p:blipFill>
          <a:blip r:embed="rId7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2c2137"/>
                </a:solidFill>
                <a:latin typeface="Verdana"/>
              </a:rPr>
              <a:t>Thank you!</a:t>
            </a:r>
            <a:br>
              <a:rPr sz="4000"/>
            </a:br>
            <a:r>
              <a:rPr b="0" lang="fr-BE" sz="3000" spc="-1" strike="noStrike">
                <a:solidFill>
                  <a:srgbClr val="6600ff"/>
                </a:solidFill>
                <a:latin typeface="Verdana"/>
              </a:rPr>
              <a:t>www.ilga-europe.org</a:t>
            </a:r>
            <a:br>
              <a:rPr sz="3000"/>
            </a:b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1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c2137"/>
                </a:solidFill>
                <a:latin typeface="Verdana"/>
              </a:rPr>
              <a:t>Why are trans issues dealt with under ‘gender’?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5" descr="Untitled-3.gif"/>
          <p:cNvPicPr/>
          <p:nvPr/>
        </p:nvPicPr>
        <p:blipFill>
          <a:blip r:embed="rId1"/>
          <a:stretch/>
        </p:blipFill>
        <p:spPr>
          <a:xfrm>
            <a:off x="4067280" y="115920"/>
            <a:ext cx="1023840" cy="4842000"/>
          </a:xfrm>
          <a:prstGeom prst="rect">
            <a:avLst/>
          </a:prstGeom>
          <a:ln w="0">
            <a:noFill/>
          </a:ln>
        </p:spPr>
      </p:pic>
      <p:grpSp>
        <p:nvGrpSpPr>
          <p:cNvPr id="243" name="Cube 14"/>
          <p:cNvGrpSpPr/>
          <p:nvPr/>
        </p:nvGrpSpPr>
        <p:grpSpPr>
          <a:xfrm>
            <a:off x="5357880" y="1116000"/>
            <a:ext cx="3047760" cy="2968560"/>
            <a:chOff x="5357880" y="1116000"/>
            <a:chExt cx="3047760" cy="2968560"/>
          </a:xfrm>
        </p:grpSpPr>
        <p:pic>
          <p:nvPicPr>
            <p:cNvPr id="244" name="Cube 14" descr=""/>
            <p:cNvPicPr/>
            <p:nvPr/>
          </p:nvPicPr>
          <p:blipFill>
            <a:blip r:embed="rId2"/>
            <a:stretch/>
          </p:blipFill>
          <p:spPr>
            <a:xfrm>
              <a:off x="5357880" y="1116000"/>
              <a:ext cx="304776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102360" y="1935000"/>
              <a:ext cx="20700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Cube 13"/>
          <p:cNvGrpSpPr/>
          <p:nvPr/>
        </p:nvGrpSpPr>
        <p:grpSpPr>
          <a:xfrm>
            <a:off x="743040" y="1085760"/>
            <a:ext cx="2975040" cy="2973600"/>
            <a:chOff x="743040" y="1085760"/>
            <a:chExt cx="2975040" cy="2973600"/>
          </a:xfrm>
        </p:grpSpPr>
        <p:pic>
          <p:nvPicPr>
            <p:cNvPr id="247" name="Cube 13" descr=""/>
            <p:cNvPicPr/>
            <p:nvPr/>
          </p:nvPicPr>
          <p:blipFill>
            <a:blip r:embed="rId3"/>
            <a:stretch/>
          </p:blipFill>
          <p:spPr>
            <a:xfrm>
              <a:off x="743040" y="1085760"/>
              <a:ext cx="2975040" cy="29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71640" y="1935000"/>
              <a:ext cx="199872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Gender gate keep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9" descr="IE logo without motto GIF version.GIF"/>
          <p:cNvPicPr/>
          <p:nvPr/>
        </p:nvPicPr>
        <p:blipFill>
          <a:blip r:embed="rId4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9" descr=""/>
          <p:cNvPicPr/>
          <p:nvPr/>
        </p:nvPicPr>
        <p:blipFill>
          <a:blip r:embed="rId5"/>
          <a:stretch/>
        </p:blipFill>
        <p:spPr>
          <a:xfrm>
            <a:off x="6308640" y="2657520"/>
            <a:ext cx="1683000" cy="78084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10" descr=""/>
          <p:cNvPicPr/>
          <p:nvPr/>
        </p:nvPicPr>
        <p:blipFill>
          <a:blip r:embed="rId6"/>
          <a:stretch/>
        </p:blipFill>
        <p:spPr>
          <a:xfrm>
            <a:off x="712800" y="2657520"/>
            <a:ext cx="2560680" cy="780840"/>
          </a:xfrm>
          <a:prstGeom prst="rect">
            <a:avLst/>
          </a:prstGeom>
          <a:ln w="0">
            <a:noFill/>
          </a:ln>
        </p:spPr>
      </p:pic>
      <p:grpSp>
        <p:nvGrpSpPr>
          <p:cNvPr id="253" name="Left-Right Arrow 17"/>
          <p:cNvGrpSpPr/>
          <p:nvPr/>
        </p:nvGrpSpPr>
        <p:grpSpPr>
          <a:xfrm>
            <a:off x="878040" y="4486320"/>
            <a:ext cx="7540560" cy="847800"/>
            <a:chOff x="878040" y="4486320"/>
            <a:chExt cx="7540560" cy="847800"/>
          </a:xfrm>
        </p:grpSpPr>
        <p:pic>
          <p:nvPicPr>
            <p:cNvPr id="254" name="Left-Right Arrow 17" descr=""/>
            <p:cNvPicPr/>
            <p:nvPr/>
          </p:nvPicPr>
          <p:blipFill>
            <a:blip r:embed="rId7"/>
            <a:stretch/>
          </p:blipFill>
          <p:spPr>
            <a:xfrm>
              <a:off x="878040" y="4486320"/>
              <a:ext cx="7540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096920" y="4707000"/>
              <a:ext cx="709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Verdana"/>
                </a:rPr>
                <a:t>Gender Spectru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19" descr="Untitled-1 copy.gif"/>
          <p:cNvPicPr/>
          <p:nvPr/>
        </p:nvPicPr>
        <p:blipFill>
          <a:blip r:embed="rId8"/>
          <a:stretch/>
        </p:blipFill>
        <p:spPr>
          <a:xfrm>
            <a:off x="3700440" y="1341360"/>
            <a:ext cx="1663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2c2137"/>
                </a:solidFill>
                <a:latin typeface="Verdana"/>
              </a:rPr>
              <a:t>Legislation and trans people within the EU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ECJ rul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69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1996 ECJ decision in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 P v. S and Cornwall County Council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ed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300" spc="-1" strike="noStrike">
                <a:solidFill>
                  <a:srgbClr val="2c2137"/>
                </a:solidFill>
                <a:latin typeface="Verdana"/>
              </a:rPr>
              <a:t>“</a:t>
            </a:r>
            <a:r>
              <a:rPr b="0" lang="en-GB" sz="2300" spc="-1" strike="noStrike">
                <a:solidFill>
                  <a:srgbClr val="2c2137"/>
                </a:solidFill>
                <a:latin typeface="Verdana"/>
              </a:rPr>
              <a:t>[...] Council Directive 76/207/EEC of 9 February 1976 [...] precludes dismissal of a transsexual for a reason related to a gender reassignment.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milestone decision for the emancipation of trans people within the EU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cision was later reiterated in K.B. [2004] and Richards [2006]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9" descr="IE logo without motto GIF version.GIF"/>
          <p:cNvPicPr/>
          <p:nvPr/>
        </p:nvPicPr>
        <p:blipFill>
          <a:blip r:embed="rId6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P v. S princi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he 1996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P v. S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cision was taken into account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n the adop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r 2004/113/EC on access to goods and services 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</a:rPr>
              <a:t>[2606</a:t>
            </a:r>
            <a:r>
              <a:rPr b="0" i="1" lang="en-GB" sz="2200" spc="-1" strike="noStrike" baseline="30000">
                <a:solidFill>
                  <a:srgbClr val="48365a"/>
                </a:solidFill>
                <a:latin typeface="Verdana"/>
              </a:rPr>
              <a:t>th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</a:rPr>
              <a:t> C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  <a:ea typeface="Verdana"/>
              </a:rPr>
              <a:t>&amp;C meeting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r 2006/54/EC gender ‘recast’ directive (on employment and occupation) </a:t>
            </a:r>
            <a:r>
              <a:rPr b="0" i="1" lang="en-GB" sz="2200" spc="-1" strike="noStrike">
                <a:solidFill>
                  <a:srgbClr val="48365a"/>
                </a:solidFill>
                <a:latin typeface="Verdana"/>
              </a:rPr>
              <a:t>[recital 3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Howeve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Ss have no obligation to transpose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P v. S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nto legal texts but only apply its princi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P v. S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rinciple leaves transgender [non-op] people in a legal limb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9" descr="IE logo without motto GIF version.GIF"/>
          <p:cNvPicPr/>
          <p:nvPr/>
        </p:nvPicPr>
        <p:blipFill>
          <a:blip r:embed="rId9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Patchy outcom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Picture 9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1996920" y="476280"/>
            <a:ext cx="5270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2c2137"/>
                </a:solidFill>
                <a:latin typeface="Verdana"/>
              </a:rPr>
              <a:t>How can trans people be included better?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Picture 6" descr="IE logo without motto GIF version.GIF"/>
          <p:cNvPicPr/>
          <p:nvPr/>
        </p:nvPicPr>
        <p:blipFill>
          <a:blip r:embed="rId1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878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2137"/>
                </a:solidFill>
                <a:latin typeface="Verdana"/>
              </a:rPr>
              <a:t>Simple inclu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Language in policy documen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s it necessary to refer to ‘men’ and ‘women’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an ‘gender/s’ or ‘sexes’ suffic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inary/opposites’ exclude, ‘options’ include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Registration form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ame: .................................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ender: Male       Female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ame: .................................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ender: ..................................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IE logo without motto GIF version.GIF"/>
          <p:cNvPicPr/>
          <p:nvPr/>
        </p:nvPicPr>
        <p:blipFill>
          <a:blip r:embed="rId13"/>
          <a:stretch/>
        </p:blipFill>
        <p:spPr>
          <a:xfrm>
            <a:off x="7164360" y="5934240"/>
            <a:ext cx="1478160" cy="5378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3203640" y="3429000"/>
            <a:ext cx="360360" cy="360360"/>
          </a:xfrm>
          <a:prstGeom prst="rect">
            <a:avLst/>
          </a:prstGeom>
          <a:solidFill>
            <a:srgbClr val="d9d9d9"/>
          </a:solidFill>
          <a:ln w="42480">
            <a:solidFill>
              <a:srgbClr val="595959"/>
            </a:solidFill>
            <a:miter/>
          </a:ln>
          <a:effectLst>
            <a:outerShdw dist="50760" dir="5400000" blurRad="0" rotWithShape="0">
              <a:srgbClr val="a6a6a6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932360" y="3429000"/>
            <a:ext cx="360360" cy="360360"/>
          </a:xfrm>
          <a:prstGeom prst="rect">
            <a:avLst/>
          </a:prstGeom>
          <a:solidFill>
            <a:srgbClr val="d9d9d9"/>
          </a:solidFill>
          <a:ln w="42480">
            <a:solidFill>
              <a:srgbClr val="595959"/>
            </a:solidFill>
            <a:miter/>
          </a:ln>
          <a:effectLst>
            <a:outerShdw dist="50760" dir="5400000" blurRad="0" rotWithShape="0">
              <a:srgbClr val="a6a6a6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6804000" y="4221000"/>
            <a:ext cx="7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c00000"/>
                </a:solidFill>
                <a:latin typeface="Wingdings"/>
                <a:ea typeface="Wingdings"/>
              </a:rPr>
              <a:t>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23:28:46Z</dcterms:created>
  <dc:creator>hp090316</dc:creator>
  <dc:description/>
  <dc:language>en-US</dc:language>
  <cp:lastModifiedBy>Caroline Nsenda</cp:lastModifiedBy>
  <dcterms:modified xsi:type="dcterms:W3CDTF">2010-12-17T15:49:51Z</dcterms:modified>
  <cp:revision>96</cp:revision>
  <dc:subject/>
  <dc:title>Examples of legal and policy good practices on trans equality and inclusion</dc:title>
</cp:coreProperties>
</file>