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6304-26DE-4CF2-802D-D9DC0189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993-227E-4870-BD26-000FD368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07A-7712-40F2-8F2E-A5F2DA66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6B5-4F5E-4131-95FF-C04FAF23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1A1-309D-459B-B2CA-A8D16E5E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A5C2-D411-4DA3-942C-C0527DFB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DF40-E759-47F3-9D45-85827531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718A-5B30-4FE2-A5E3-FF873549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40CB-179B-448D-9A8C-E1964146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9605-AE2C-4FD6-A383-79454278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FBD3-65C7-433E-9E24-50A3D50F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142-5CE9-4E14-B6AE-6D1C1479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988C-6CD3-4066-9605-22441C46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45A5-3075-4320-A4B8-DBFB8082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3B19-57BB-4704-B74A-64720942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B484-8F66-4206-8EC4-37D06CA8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4E79-4C97-4579-87EE-AD7D4684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C2469-A5EC-40ED-907E-FCE2A875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F042-1DD4-4E0E-A363-97EE4F85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FC3D1-86C0-4882-8586-F8D8DBD5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FCCC-4BD8-4695-898F-DB8A49BA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3487-742A-402A-9FAB-67C2F9C3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A9B-0F04-4002-9C31-809F3DC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7FDA-EA44-4731-AF6F-D6DB71B6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2073-42D0-4269-974D-DA3F625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A0E4-C28C-4A82-AD3E-BD6D6D1F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5CD1C-290B-4098-87A5-86682366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23DE-7F07-478F-A3EA-5C6E918E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C8D21-F8A1-4728-BD96-2E47973C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A7C2-AC59-41EC-9285-23248A3C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FD04F-03EE-410C-8E34-3B85E097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82043-4123-49BC-9EBA-B0C92C49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443E1-F0CF-4C4E-AA4A-98D27AD9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7C4-1244-4180-98DD-D9FE265C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02CE6-19E4-4C5C-B025-E7CFA62A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61958-7CFF-4F93-AD36-797CE4BF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A38B6-30A8-46C6-9B14-768A29BD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1128C-CCC6-43CC-AB52-FEAACE1F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AFFA-2E11-4FE9-AC2D-68C6C20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80395-739D-4ABB-ADBE-A24A1839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98CD-C77A-4D0E-859E-2A16AF23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9C8A5-0515-4ECB-A9BB-1B77DE0F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06D83-95BD-45C9-B10B-1B0FD222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FC27D-968C-4ECA-B565-A3369CEC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14B-EAE5-4F7C-8A45-2EEFD5D4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D630D-FAD2-4DCA-8BFE-6C7A45FE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181B2-E7BF-4AB7-A59A-B1395C1F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55BBC-F522-4FE5-B2A5-F18011E8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458E6-A7F2-40C8-B066-97D5E2C3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2E93-414B-4DF2-9FAB-3290AAD1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A978F-6ADB-4AEA-A09F-C0218F29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6304-504B-4190-9AD8-56D7B5E5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DDCC8-DE4F-4A92-ABFD-1BFDCE17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CE262-00A4-4D6D-93FA-5B1A6A1F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84BCF-4E92-48D2-8D37-01C8287F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4ED-FF35-4941-8386-19E9BA79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A5F41-F0C8-420F-B12C-DF1D7C65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59D-3A96-4CC8-B839-46E8AA55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772-45E3-47F0-A04B-A4429EF3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AAF-2F98-4AD0-B166-B790C7D4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4F4B-8451-4A44-AF85-E163558206BE}" type="slidenum">
              <a:rPr b="0" lang="fr-B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C969-12E5-4238-A0FE-98478F946FFE}" type="slidenum">
              <a:rPr b="0" lang="fr-B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0BC0-E759-4662-A8DE-4B8ECDAB8437}" type="slidenum">
              <a:rPr b="0" lang="fr-B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E12C-26B5-4D02-BF39-CD984096F900}" type="slidenum">
              <a:rPr b="0" lang="fr-B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6038-4E66-4D36-B813-3C28A7E8C836}" type="slidenum">
              <a:rPr b="0" lang="fr-B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3" descr="blog_photos5.jpg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6983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blog_photos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38" name="Rounded Rectangle 9"/>
          <p:cNvSpPr/>
          <p:nvPr/>
        </p:nvSpPr>
        <p:spPr>
          <a:xfrm>
            <a:off x="250920" y="4653000"/>
            <a:ext cx="8642160" cy="1800360"/>
          </a:xfrm>
          <a:prstGeom prst="roundRect">
            <a:avLst>
              <a:gd name="adj" fmla="val 16667"/>
            </a:avLst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2c2137"/>
                </a:solidFill>
                <a:latin typeface="Verdana"/>
              </a:rPr>
              <a:t>Coverage and inclusion of trans people</a:t>
            </a:r>
            <a:br>
              <a:rPr sz="30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Calibri"/>
                <a:ea typeface="Calibri"/>
              </a:rPr>
              <a:t>Silvan Agiu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, Policy Director, ILGA-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Briefing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1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 Dec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IE logo without motto GIF version.GIF"/>
          <p:cNvPicPr/>
          <p:nvPr/>
        </p:nvPicPr>
        <p:blipFill>
          <a:blip r:embed="rId3"/>
          <a:stretch/>
        </p:blipFill>
        <p:spPr>
          <a:xfrm>
            <a:off x="539640" y="5429160"/>
            <a:ext cx="20163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Substantive inclus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How to include trans in mainstream work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re trans people sufficiently covered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f not, consider parallel work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Segregated stat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sibility – through inclusive images, express reference to ‘gender identity’ or ‘trans people’ et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Is there a trans specific element that needs to be considered separ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.g. Trans heal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lassification of gender identity as a mental ill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9" descr="IE logo without motto GIF version.GIF"/>
          <p:cNvPicPr/>
          <p:nvPr/>
        </p:nvPicPr>
        <p:blipFill>
          <a:blip r:embed="rId9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2c2137"/>
                </a:solidFill>
                <a:latin typeface="Verdana"/>
              </a:rPr>
              <a:t>What is ILGA-Europe calling for?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0" name="Picture 6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137"/>
                </a:solidFill>
                <a:latin typeface="Verdana"/>
              </a:rPr>
              <a:t>EU Gender Strategy 2010-15: ILGA-Europe trans demand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mbat gender based stereotypes (gendernormativity, transphobi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ffective legal protection (current + futur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ackling intersectional discrimin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Gender equality measures take full account of trans peop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9" descr="IE logo without motto GIF version.GIF"/>
          <p:cNvPicPr/>
          <p:nvPr/>
        </p:nvPicPr>
        <p:blipFill>
          <a:blip r:embed="rId8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VAW: ILGA-Europe T deman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doption of effective legal meas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VAW as core; but trans people also clearly cove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ver men who may fall victims due to their gender non-conformity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/ gender reassig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Build upon existing local/ national strate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Combat gender stereotypes, transphobia, and gendernormativ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9" descr="IE logo without motto GIF version.GIF"/>
          <p:cNvPicPr/>
          <p:nvPr/>
        </p:nvPicPr>
        <p:blipFill>
          <a:blip r:embed="rId1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Health and depathologisation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sure quality standards for medical treat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oval of gender identity disorder from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ternational Classification of Diseases (IC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agnostic and Statistical Manual of Mental Disorders (DSM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verage of trans people under national health insurances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(as applic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9" descr="IE logo without motto GIF version.GIF"/>
          <p:cNvPicPr/>
          <p:nvPr/>
        </p:nvPicPr>
        <p:blipFill>
          <a:blip r:embed="rId7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2c2137"/>
                </a:solidFill>
                <a:latin typeface="Verdana"/>
              </a:rPr>
              <a:t>Thank you!</a:t>
            </a:r>
            <a:br>
              <a:rPr sz="4000"/>
            </a:br>
            <a:r>
              <a:rPr b="0" lang="fr-BE" sz="3000" spc="-1" strike="noStrike">
                <a:solidFill>
                  <a:srgbClr val="6600ff"/>
                </a:solidFill>
                <a:latin typeface="Verdana"/>
              </a:rPr>
              <a:t>www.ilga-europe.org</a:t>
            </a:r>
            <a:br>
              <a:rPr sz="3000"/>
            </a:b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1" name="Picture 6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c2137"/>
                </a:solidFill>
                <a:latin typeface="Verdana"/>
              </a:rPr>
              <a:t>Why are trans issues dealt with under ‘gender’?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Picture 6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5" descr="Untitled-3.gif"/>
          <p:cNvPicPr/>
          <p:nvPr/>
        </p:nvPicPr>
        <p:blipFill>
          <a:blip r:embed="rId1"/>
          <a:stretch/>
        </p:blipFill>
        <p:spPr>
          <a:xfrm>
            <a:off x="4067280" y="115920"/>
            <a:ext cx="1023840" cy="4842000"/>
          </a:xfrm>
          <a:prstGeom prst="rect">
            <a:avLst/>
          </a:prstGeom>
          <a:ln w="0">
            <a:noFill/>
          </a:ln>
        </p:spPr>
      </p:pic>
      <p:grpSp>
        <p:nvGrpSpPr>
          <p:cNvPr id="243" name="Cube 14"/>
          <p:cNvGrpSpPr/>
          <p:nvPr/>
        </p:nvGrpSpPr>
        <p:grpSpPr>
          <a:xfrm>
            <a:off x="5357880" y="1116000"/>
            <a:ext cx="3047760" cy="2968560"/>
            <a:chOff x="5357880" y="1116000"/>
            <a:chExt cx="3047760" cy="2968560"/>
          </a:xfrm>
        </p:grpSpPr>
        <p:pic>
          <p:nvPicPr>
            <p:cNvPr id="244" name="Cube 14" descr=""/>
            <p:cNvPicPr/>
            <p:nvPr/>
          </p:nvPicPr>
          <p:blipFill>
            <a:blip r:embed="rId2"/>
            <a:stretch/>
          </p:blipFill>
          <p:spPr>
            <a:xfrm>
              <a:off x="5357880" y="1116000"/>
              <a:ext cx="304776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102360" y="1935000"/>
              <a:ext cx="207000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Cube 13"/>
          <p:cNvGrpSpPr/>
          <p:nvPr/>
        </p:nvGrpSpPr>
        <p:grpSpPr>
          <a:xfrm>
            <a:off x="743040" y="1085760"/>
            <a:ext cx="2975040" cy="2973600"/>
            <a:chOff x="743040" y="1085760"/>
            <a:chExt cx="2975040" cy="2973600"/>
          </a:xfrm>
        </p:grpSpPr>
        <p:pic>
          <p:nvPicPr>
            <p:cNvPr id="247" name="Cube 13" descr=""/>
            <p:cNvPicPr/>
            <p:nvPr/>
          </p:nvPicPr>
          <p:blipFill>
            <a:blip r:embed="rId3"/>
            <a:stretch/>
          </p:blipFill>
          <p:spPr>
            <a:xfrm>
              <a:off x="743040" y="1085760"/>
              <a:ext cx="2975040" cy="29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71640" y="1935000"/>
              <a:ext cx="199872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Gender gate keep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9" descr="IE logo without motto GIF version.GIF"/>
          <p:cNvPicPr/>
          <p:nvPr/>
        </p:nvPicPr>
        <p:blipFill>
          <a:blip r:embed="rId4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9" descr=""/>
          <p:cNvPicPr/>
          <p:nvPr/>
        </p:nvPicPr>
        <p:blipFill>
          <a:blip r:embed="rId5"/>
          <a:stretch/>
        </p:blipFill>
        <p:spPr>
          <a:xfrm>
            <a:off x="6308640" y="2657520"/>
            <a:ext cx="1683000" cy="78084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10" descr=""/>
          <p:cNvPicPr/>
          <p:nvPr/>
        </p:nvPicPr>
        <p:blipFill>
          <a:blip r:embed="rId6"/>
          <a:stretch/>
        </p:blipFill>
        <p:spPr>
          <a:xfrm>
            <a:off x="712800" y="2657520"/>
            <a:ext cx="2560680" cy="780840"/>
          </a:xfrm>
          <a:prstGeom prst="rect">
            <a:avLst/>
          </a:prstGeom>
          <a:ln w="0">
            <a:noFill/>
          </a:ln>
        </p:spPr>
      </p:pic>
      <p:grpSp>
        <p:nvGrpSpPr>
          <p:cNvPr id="253" name="Left-Right Arrow 17"/>
          <p:cNvGrpSpPr/>
          <p:nvPr/>
        </p:nvGrpSpPr>
        <p:grpSpPr>
          <a:xfrm>
            <a:off x="878040" y="4486320"/>
            <a:ext cx="7540560" cy="847800"/>
            <a:chOff x="878040" y="4486320"/>
            <a:chExt cx="7540560" cy="847800"/>
          </a:xfrm>
        </p:grpSpPr>
        <p:pic>
          <p:nvPicPr>
            <p:cNvPr id="254" name="Left-Right Arrow 17" descr=""/>
            <p:cNvPicPr/>
            <p:nvPr/>
          </p:nvPicPr>
          <p:blipFill>
            <a:blip r:embed="rId7"/>
            <a:stretch/>
          </p:blipFill>
          <p:spPr>
            <a:xfrm>
              <a:off x="878040" y="4486320"/>
              <a:ext cx="75405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096920" y="4707000"/>
              <a:ext cx="709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Verdana"/>
                </a:rPr>
                <a:t>Gender Spectru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Picture 19" descr="Untitled-1 copy.gif"/>
          <p:cNvPicPr/>
          <p:nvPr/>
        </p:nvPicPr>
        <p:blipFill>
          <a:blip r:embed="rId8"/>
          <a:stretch/>
        </p:blipFill>
        <p:spPr>
          <a:xfrm>
            <a:off x="3700440" y="1341360"/>
            <a:ext cx="1663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2c2137"/>
                </a:solidFill>
                <a:latin typeface="Verdana"/>
              </a:rPr>
              <a:t>Legislation and trans people within the EU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6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ECJ rul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529920"/>
            <a:ext cx="8183520" cy="469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1996 ECJ decision in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 P v. S and Cornwall County Council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ed th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300" spc="-1" strike="noStrike">
                <a:solidFill>
                  <a:srgbClr val="2c2137"/>
                </a:solidFill>
                <a:latin typeface="Verdana"/>
              </a:rPr>
              <a:t>“</a:t>
            </a:r>
            <a:r>
              <a:rPr b="0" lang="en-GB" sz="2300" spc="-1" strike="noStrike">
                <a:solidFill>
                  <a:srgbClr val="2c2137"/>
                </a:solidFill>
                <a:latin typeface="Verdana"/>
              </a:rPr>
              <a:t>[...] Council Directive 76/207/EEC of 9 February 1976 [...] precludes dismissal of a transsexual for a reason related to a gender reassignment.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milestone decision for the emancipation of trans people within the EU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cision was later reiterated in K.B. [2004] and Richards [2006]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9" descr="IE logo without motto GIF version.GIF"/>
          <p:cNvPicPr/>
          <p:nvPr/>
        </p:nvPicPr>
        <p:blipFill>
          <a:blip r:embed="rId6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P v. S princi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he 1996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P v. S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cision was taken into account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n the adop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r 2004/113/EC on access to goods and services </a:t>
            </a:r>
            <a:r>
              <a:rPr b="0" i="1" lang="en-GB" sz="2200" spc="-1" strike="noStrike">
                <a:solidFill>
                  <a:srgbClr val="48365a"/>
                </a:solidFill>
                <a:latin typeface="Verdana"/>
              </a:rPr>
              <a:t>[2606</a:t>
            </a:r>
            <a:r>
              <a:rPr b="0" i="1" lang="en-GB" sz="2200" spc="-1" strike="noStrike" baseline="30000">
                <a:solidFill>
                  <a:srgbClr val="48365a"/>
                </a:solidFill>
                <a:latin typeface="Verdana"/>
              </a:rPr>
              <a:t>th</a:t>
            </a:r>
            <a:r>
              <a:rPr b="0" i="1" lang="en-GB" sz="2200" spc="-1" strike="noStrike">
                <a:solidFill>
                  <a:srgbClr val="48365a"/>
                </a:solidFill>
                <a:latin typeface="Verdana"/>
              </a:rPr>
              <a:t> C</a:t>
            </a:r>
            <a:r>
              <a:rPr b="0" i="1" lang="en-GB" sz="2200" spc="-1" strike="noStrike">
                <a:solidFill>
                  <a:srgbClr val="48365a"/>
                </a:solidFill>
                <a:latin typeface="Verdana"/>
                <a:ea typeface="Verdana"/>
              </a:rPr>
              <a:t>&amp;C meeting</a:t>
            </a:r>
            <a:r>
              <a:rPr b="0" i="1" lang="en-GB" sz="2200" spc="-1" strike="noStrike">
                <a:solidFill>
                  <a:srgbClr val="48365a"/>
                </a:solidFill>
                <a:latin typeface="Verdan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r 2006/54/EC gender ‘recast’ directive (on employment and occupation) </a:t>
            </a:r>
            <a:r>
              <a:rPr b="0" i="1" lang="en-GB" sz="2200" spc="-1" strike="noStrike">
                <a:solidFill>
                  <a:srgbClr val="48365a"/>
                </a:solidFill>
                <a:latin typeface="Verdana"/>
              </a:rPr>
              <a:t>[recital 3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Howeve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Ss have no obligation to transpose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P v. S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nto legal texts but only apply its princi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P v. S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rinciple leaves transgender [non-op] people in a legal limb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9" descr="IE logo without motto GIF version.GIF"/>
          <p:cNvPicPr/>
          <p:nvPr/>
        </p:nvPicPr>
        <p:blipFill>
          <a:blip r:embed="rId9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Patchy outcom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Picture 9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1996920" y="476280"/>
            <a:ext cx="5270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2c2137"/>
                </a:solidFill>
                <a:latin typeface="Verdana"/>
              </a:rPr>
              <a:t>How can trans people be included better?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Picture 6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Simple inclus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Language in policy documen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s it necessary to refer to ‘men’ and ‘women’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an ‘gender/s’ or ‘sexes’ suffic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inary/opposites’ exclude, ‘options’ include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Registration form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Name: .................................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ender: Male       Female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Name: .................................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ender: ..................................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IE logo without motto GIF version.GIF"/>
          <p:cNvPicPr/>
          <p:nvPr/>
        </p:nvPicPr>
        <p:blipFill>
          <a:blip r:embed="rId13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4"/>
          <p:cNvSpPr/>
          <p:nvPr/>
        </p:nvSpPr>
        <p:spPr>
          <a:xfrm>
            <a:off x="3203640" y="3429000"/>
            <a:ext cx="360360" cy="360360"/>
          </a:xfrm>
          <a:prstGeom prst="rect">
            <a:avLst/>
          </a:prstGeom>
          <a:solidFill>
            <a:srgbClr val="d9d9d9"/>
          </a:solidFill>
          <a:ln w="42480">
            <a:solidFill>
              <a:srgbClr val="595959"/>
            </a:solidFill>
            <a:miter/>
          </a:ln>
          <a:effectLst>
            <a:outerShdw dist="50760" dir="5400000" blurRad="0" rotWithShape="0">
              <a:srgbClr val="a6a6a6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932360" y="3429000"/>
            <a:ext cx="360360" cy="360360"/>
          </a:xfrm>
          <a:prstGeom prst="rect">
            <a:avLst/>
          </a:prstGeom>
          <a:solidFill>
            <a:srgbClr val="d9d9d9"/>
          </a:solidFill>
          <a:ln w="42480">
            <a:solidFill>
              <a:srgbClr val="595959"/>
            </a:solidFill>
            <a:miter/>
          </a:ln>
          <a:effectLst>
            <a:outerShdw dist="50760" dir="5400000" blurRad="0" rotWithShape="0">
              <a:srgbClr val="a6a6a6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6804000" y="4221000"/>
            <a:ext cx="7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c00000"/>
                </a:solidFill>
                <a:latin typeface="Wingdings"/>
                <a:ea typeface="Wingdings"/>
              </a:rPr>
              <a:t>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23:28:46Z</dcterms:created>
  <dc:creator>hp090316</dc:creator>
  <dc:description/>
  <dc:language>en-US</dc:language>
  <cp:lastModifiedBy>Caroline Nsenda</cp:lastModifiedBy>
  <dcterms:modified xsi:type="dcterms:W3CDTF">2010-12-17T15:49:51Z</dcterms:modified>
  <cp:revision>96</cp:revision>
  <dc:subject/>
  <dc:title>Examples of legal and policy good practices on trans equality and inclusion</dc:title>
</cp:coreProperties>
</file>